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D2E4-1B62-4E80-BA0F-B0D0C6861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02E5-6CEA-484F-A0CC-F9030ECC1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E125-526F-4A3B-88CB-B67C393F8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D7EC-840D-4566-BDEE-D5BFFE79C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0C91-76DF-4C24-9800-860F03059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3D24-E3A7-4E38-8595-045A267BA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8EC9-9108-4D19-BDA3-0C0EEA6A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B84E-BE5C-4C03-A7E9-BC657C24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F2FD-A9CA-463F-B2EF-7E8761A5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6F78-5AF5-4B3F-9C53-4B33E161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C15-45E2-473F-84A4-208966E9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370E-9226-4C5A-AD84-9F04C4CF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DFA-015D-4A07-BFB0-A9AB6E6E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FAE-714B-4B7B-889C-7717CF0A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829D-3135-49DA-8502-C9E34289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C46-B864-4CE0-95FD-A061045C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D060-112D-4E16-8A67-8742DE70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A8E9-C38B-42C7-8CB5-D5E92840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F3F2-F4CF-4940-B52C-0224199F2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 Long Way Gone: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moirs of a Boy Sold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A LONG WAY GONE"/>
          <p:cNvPicPr/>
          <p:nvPr/>
        </p:nvPicPr>
        <p:blipFill>
          <a:blip r:embed="rId1"/>
          <a:stretch/>
        </p:blipFill>
        <p:spPr>
          <a:xfrm>
            <a:off x="3121200" y="1981080"/>
            <a:ext cx="3051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erra Le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remember about Sierra Leone from the ch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erra Le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 5 million- roughly half the size of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Capita GDP Per Person: $900/ US- $46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Expectancy: 55/ US- 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ant mortality: 12 deaths per 1,000- US deaths 6 per 1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is this loca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35004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erra Le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WEST AFRICA MAP"/>
          <p:cNvPicPr/>
          <p:nvPr/>
        </p:nvPicPr>
        <p:blipFill>
          <a:blip r:embed="rId1"/>
          <a:stretch/>
        </p:blipFill>
        <p:spPr>
          <a:xfrm>
            <a:off x="1917720" y="1981080"/>
            <a:ext cx="530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hmael Be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Nov 23, 1980 in Sierra Le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War, 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Soldier at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cued, 199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C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ted from Oberlin College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ishmael_beah"/>
          <p:cNvPicPr/>
          <p:nvPr/>
        </p:nvPicPr>
        <p:blipFill>
          <a:blip r:embed="rId1"/>
          <a:stretch/>
        </p:blipFill>
        <p:spPr>
          <a:xfrm>
            <a:off x="4913280" y="1981080"/>
            <a:ext cx="3279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War in Sierra Le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gotten Wa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erra Leone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hmael Beah Fou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ISHMAEL BEAH FOUNDATION"/>
          <p:cNvPicPr/>
          <p:nvPr/>
        </p:nvPicPr>
        <p:blipFill>
          <a:blip r:embed="rId1"/>
          <a:stretch/>
        </p:blipFill>
        <p:spPr>
          <a:xfrm>
            <a:off x="2895480" y="1523880"/>
            <a:ext cx="3443400" cy="41148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3203640" y="571500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beahfound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hmael Be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- http://video.google.com/videoplay?docid=8238302889157571517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 Organize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, What, When, Where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we do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ica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ica is Di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is Sierra Le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 Organizer- Who is Ishmael Be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objec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solutions to contemporary world problems- child soldiers/ blood diamond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scarcity influences socie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ntinent are they f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ntinent are they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4419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continent is he f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229896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ntinent are they f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ntinent are they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33908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r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F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41911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is this loca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is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33274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is this loca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505320" y="2666880"/>
            <a:ext cx="20318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tinent- How many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imes the size of th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0 different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0 different groups- very d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6:47:46Z</dcterms:created>
  <dc:creator>Michael Farrell</dc:creator>
  <dc:description/>
  <dc:language>en-US</dc:language>
  <cp:lastModifiedBy>Craig Rush</cp:lastModifiedBy>
  <dcterms:modified xsi:type="dcterms:W3CDTF">2011-01-09T17:17:39Z</dcterms:modified>
  <cp:revision>5</cp:revision>
  <dc:subject/>
  <dc:title>A Long Way Gone:  Memoirs of a Boy Soldier</dc:title>
</cp:coreProperties>
</file>